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30603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824200" y="685440"/>
            <a:ext cx="120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62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5F1391E4-F16F-4F5F-8C1E-7521014A78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824200" y="685800"/>
            <a:ext cx="1209600" cy="3429000"/>
          </a:xfrm>
          <a:prstGeom prst="rect">
            <a:avLst/>
          </a:prstGeom>
          <a:ln w="0">
            <a:noFill/>
          </a:ln>
        </p:spPr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　バナースタンド用テンプレート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ページサイズが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00×85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になってい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当社で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まで拡大し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余白やフチが必要無い場合は端まで描画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入稿データにする時は「名前を付けて保存」→「ＰＤＦ形式」で保存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四隅に、直径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4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のハトメが付きます。必要なデザインや文字が重ならないようにご注意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1FA16BF6-985C-4ECB-8732-B69359E103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644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252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00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82644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11252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0000" y="1220760"/>
            <a:ext cx="9719640" cy="236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75"/>
              </a:spcBef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豊桑麻沙</cp:lastModifiedBy>
  <dcterms:modified xsi:type="dcterms:W3CDTF">2020-01-29T05:05:55Z</dcterms:modified>
  <cp:revision>14</cp:revision>
  <dc:subject/>
  <dc:title>スライド 1</dc:title>
</cp:coreProperties>
</file>